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61C-11BE-4DCD-ABC7-765EF75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3CD-8EC9-46C6-8FF5-0D181A5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EBD-B815-4F3B-84A3-BB957B28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DD7-7766-4A09-9079-53B3D5B0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232-9143-4F92-A05B-BCC4AE3D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DE2-B74C-478E-A994-61C6EEB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7B5-29FF-44BF-AB4C-9B9DB43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644-BCA5-4C7C-8321-6BD7118F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7EA-C3E1-413A-91CF-B2D4D06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262-1A27-4440-8D7B-2C9C942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C9D-B340-4D30-B9F0-843706BD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090-8FA1-4F5C-857E-F8BA449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7BDE-5A64-454A-A7C0-467A1D71C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357280" y="500040"/>
            <a:ext cx="6429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орема Пифагор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остот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начим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000840" y="4572000"/>
            <a:ext cx="2466720" cy="18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-1014" descr=""/>
          <p:cNvPicPr/>
          <p:nvPr/>
        </p:nvPicPr>
        <p:blipFill>
          <a:blip r:embed="rId2"/>
          <a:stretch/>
        </p:blipFill>
        <p:spPr>
          <a:xfrm>
            <a:off x="2500200" y="2857680"/>
            <a:ext cx="1500480" cy="2263680"/>
          </a:xfrm>
          <a:prstGeom prst="rect">
            <a:avLst/>
          </a:prstGeom>
          <a:ln w="0">
            <a:noFill/>
          </a:ln>
        </p:spPr>
      </p:pic>
      <p:sp>
        <p:nvSpPr>
          <p:cNvPr id="44" name="Горизонтальный свиток 10"/>
          <p:cNvSpPr/>
          <p:nvPr/>
        </p:nvSpPr>
        <p:spPr>
          <a:xfrm>
            <a:off x="5000760" y="1571760"/>
            <a:ext cx="3500280" cy="242892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72080" y="20718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«Геометрия владеет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двумя сокровищами: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одно из них – это</a:t>
            </a:r>
            <a:br>
              <a:rPr sz="1800"/>
            </a:b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теорема Пифаго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78672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6c0a"/>
                </a:solidFill>
                <a:latin typeface="Calibri"/>
              </a:rPr>
              <a:t>Иоганн Кепл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142920" y="500040"/>
            <a:ext cx="2214360" cy="606636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Да, путь позн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не глад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Но знаем м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со школьных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Загадок больш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чем разгад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И поискам предела н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-1023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414680" y="4287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Может ли строитель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обойтись без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129360" y="135720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 теорема Пифагора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могала людям «измерять»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расстояние между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осмическими корабля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200640" y="32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Зачем нужна Теорема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71480" y="3357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быки «боятся» теорему 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1914480" y="150012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очему доказательство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называли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«ослиным мостом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14200" y="5522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ебудет вечной исти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скоро ее познает слабый челове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 ныне теорема Пифагора верна, как и в его далекий в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Шамисс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1143000" y="2214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ова история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создания теоремы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Пифаг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000760" y="22147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ие способы доказатель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ы Пифагора известн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28280" y="40006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то такой Пифаг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6143760" y="350028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Как применяю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теорему Пифаг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в науке и техни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214280" y="285840"/>
            <a:ext cx="72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omic Sans MS"/>
              </a:rPr>
              <a:t>охотники за зна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664000" y="1328760"/>
            <a:ext cx="4127400" cy="17748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2766960" y="2803680"/>
            <a:ext cx="44085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3"/>
          <a:stretch/>
        </p:blipFill>
        <p:spPr>
          <a:xfrm>
            <a:off x="2798640" y="4286160"/>
            <a:ext cx="4187880" cy="12002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низ 6"/>
          <p:cNvSpPr/>
          <p:nvPr/>
        </p:nvSpPr>
        <p:spPr>
          <a:xfrm>
            <a:off x="4357800" y="2357280"/>
            <a:ext cx="714240" cy="857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вниз 7"/>
          <p:cNvSpPr/>
          <p:nvPr/>
        </p:nvSpPr>
        <p:spPr>
          <a:xfrm>
            <a:off x="4429080" y="3857760"/>
            <a:ext cx="71460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Штриховая стрелка вправо 8"/>
          <p:cNvSpPr/>
          <p:nvPr/>
        </p:nvSpPr>
        <p:spPr>
          <a:xfrm rot="5400000">
            <a:off x="4357800" y="642600"/>
            <a:ext cx="642960" cy="1357200"/>
          </a:xfrm>
          <a:custGeom>
            <a:avLst/>
            <a:gdLst>
              <a:gd name="textAreaLeft" fmla="*/ 100440 w 642960"/>
              <a:gd name="textAreaRight" fmla="*/ 482400 w 64296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642942" h="1357322">
                <a:moveTo>
                  <a:pt x="0" y="339331"/>
                </a:moveTo>
                <a:lnTo>
                  <a:pt x="20092" y="339331"/>
                </a:lnTo>
                <a:lnTo>
                  <a:pt x="20092" y="1017992"/>
                </a:lnTo>
                <a:lnTo>
                  <a:pt x="0" y="1017992"/>
                </a:lnTo>
                <a:close/>
                <a:moveTo>
                  <a:pt x="40184" y="339331"/>
                </a:moveTo>
                <a:lnTo>
                  <a:pt x="80368" y="339331"/>
                </a:lnTo>
                <a:lnTo>
                  <a:pt x="80368" y="1017992"/>
                </a:lnTo>
                <a:lnTo>
                  <a:pt x="40184" y="1017992"/>
                </a:lnTo>
                <a:close/>
                <a:moveTo>
                  <a:pt x="100460" y="339331"/>
                </a:moveTo>
                <a:lnTo>
                  <a:pt x="321471" y="339331"/>
                </a:lnTo>
                <a:lnTo>
                  <a:pt x="321471" y="0"/>
                </a:lnTo>
                <a:lnTo>
                  <a:pt x="642942" y="678661"/>
                </a:lnTo>
                <a:lnTo>
                  <a:pt x="321471" y="1357322"/>
                </a:lnTo>
                <a:lnTo>
                  <a:pt x="321471" y="1017992"/>
                </a:lnTo>
                <a:lnTo>
                  <a:pt x="100460" y="1017992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Вертикальный свиток 11"/>
          <p:cNvSpPr/>
          <p:nvPr/>
        </p:nvSpPr>
        <p:spPr>
          <a:xfrm>
            <a:off x="214200" y="1428840"/>
            <a:ext cx="2643480" cy="4357440"/>
          </a:xfrm>
          <a:prstGeom prst="verticalScroll">
            <a:avLst>
              <a:gd name="adj" fmla="val 12500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785880" y="2000160"/>
            <a:ext cx="164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Только немногие знают, как много надо зна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чтобы понять, как мало знаеш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alibri"/>
              </a:rPr>
              <a:t>В.Гейзенбер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-1022" descr=""/>
          <p:cNvPicPr/>
          <p:nvPr/>
        </p:nvPicPr>
        <p:blipFill>
          <a:blip r:embed="rId2"/>
          <a:stretch/>
        </p:blipFill>
        <p:spPr>
          <a:xfrm>
            <a:off x="142920" y="500076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1000080" y="1000080"/>
            <a:ext cx="73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. Почему быки «боятся» Теорему Пифагор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. Узнать кто такой Пифагор, какова истор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создания теоремы Пифаг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3. Оформить найденный материал в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в выбранной вами форме с использованием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перфолента 3"/>
          <p:cNvSpPr/>
          <p:nvPr/>
        </p:nvSpPr>
        <p:spPr>
          <a:xfrm>
            <a:off x="2500200" y="7128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214800" y="2142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ИСТО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-1022" descr=""/>
          <p:cNvPicPr/>
          <p:nvPr/>
        </p:nvPicPr>
        <p:blipFill>
          <a:blip r:embed="rId2"/>
          <a:stretch/>
        </p:blipFill>
        <p:spPr>
          <a:xfrm>
            <a:off x="142920" y="500076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перфолента 2"/>
          <p:cNvSpPr/>
          <p:nvPr/>
        </p:nvSpPr>
        <p:spPr>
          <a:xfrm>
            <a:off x="2500200" y="21420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14800" y="3571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ТЕОРЕ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785880" y="11430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. Почему доказательство теоремы Пифагора называли «ослиным мостом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. Найти различные способы доказательства теоремы Пифаг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3. Оформить найденный материал в выбранной вами форме с использованием информационных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-1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-1022" descr=""/>
          <p:cNvPicPr/>
          <p:nvPr/>
        </p:nvPicPr>
        <p:blipFill>
          <a:blip r:embed="rId2"/>
          <a:stretch/>
        </p:blipFill>
        <p:spPr>
          <a:xfrm>
            <a:off x="142920" y="5256360"/>
            <a:ext cx="1143000" cy="1458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57120" y="857160"/>
            <a:ext cx="9001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1. Как теорема Пифагора помогала людям «измерять» расстояние между космическими кораблями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2. Может ли строитель обойтись без теоремы Пифагор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3. Узнать как применяется теорема Пифагора в науке и техник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4. Оформить найденный материал  в выбранной</a:t>
            </a:r>
            <a:br>
              <a:rPr sz="2600"/>
            </a:b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вами форме с использованием информационных</a:t>
            </a:r>
            <a:br>
              <a:rPr sz="2600"/>
            </a:br>
            <a:r>
              <a:rPr b="1" lang="ru-RU" sz="2600" spc="-1" strike="noStrike">
                <a:solidFill>
                  <a:srgbClr val="984807"/>
                </a:solidFill>
                <a:latin typeface="Calibri"/>
              </a:rPr>
              <a:t>технолог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перфолента 3"/>
          <p:cNvSpPr/>
          <p:nvPr/>
        </p:nvSpPr>
        <p:spPr>
          <a:xfrm>
            <a:off x="2500200" y="0"/>
            <a:ext cx="4143600" cy="92880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7776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libri"/>
              </a:rPr>
              <a:t>ПРА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4143240" y="5214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Успех – вот, что созд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великих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аполеон 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-1021" descr=""/>
          <p:cNvPicPr/>
          <p:nvPr/>
        </p:nvPicPr>
        <p:blipFill>
          <a:blip r:embed="rId1"/>
          <a:stretch/>
        </p:blipFill>
        <p:spPr>
          <a:xfrm>
            <a:off x="3714840" y="2143080"/>
            <a:ext cx="200016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-1020" descr=""/>
          <p:cNvPicPr/>
          <p:nvPr/>
        </p:nvPicPr>
        <p:blipFill>
          <a:blip r:embed="rId2"/>
          <a:stretch/>
        </p:blipFill>
        <p:spPr>
          <a:xfrm>
            <a:off x="1000080" y="3429000"/>
            <a:ext cx="175572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-1018" descr=""/>
          <p:cNvPicPr/>
          <p:nvPr/>
        </p:nvPicPr>
        <p:blipFill>
          <a:blip r:embed="rId3"/>
          <a:stretch/>
        </p:blipFill>
        <p:spPr>
          <a:xfrm>
            <a:off x="6215040" y="1000080"/>
            <a:ext cx="205272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428760" y="428760"/>
            <a:ext cx="50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ри решении задачи плохой план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часто оказывается полезным: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он может вести к лучшему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ла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Д. Пой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46:09Z</dcterms:created>
  <dc:creator>SamLab.ws</dc:creator>
  <dc:description/>
  <dc:language>en-US</dc:language>
  <cp:lastModifiedBy>SamLab.ws</cp:lastModifiedBy>
  <dcterms:modified xsi:type="dcterms:W3CDTF">2011-04-23T07:34:45Z</dcterms:modified>
  <cp:revision>14</cp:revision>
  <dc:subject/>
  <dc:title>Слайд 1</dc:title>
</cp:coreProperties>
</file>